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0E8-EF06-4F68-9295-6B01664C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48C-EB4E-44C3-9AD8-5375EB5C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3C24A-1E85-44F7-AE27-64497000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4609C-AA27-4009-AB8C-3F1AF6C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40A762-96CB-42BE-975C-298C215F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40C331-3967-48E5-B718-04C3622C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7155F-D1B0-4F80-B723-3E742E72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A4182-8331-41D4-AB62-3AA633D2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510AE0-B459-4CCB-A807-9CE4C300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25463B-AE31-46F8-B013-1876EE31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0EF47-FBA7-4C78-B5C2-924F803E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3BFBEB-105F-4C17-B601-124FE4A9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0D6-EAA9-4C10-9DF1-0721D42F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EC830D-BD25-4240-99F7-FE638227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42C1E8-6E9B-4459-A523-CE189AF5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1C7DAE-9CE1-4FB0-93CB-A9811D56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97F835-D2A8-4562-AEE3-39EFD7AC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3068D1-FF0D-4866-916B-CDAC55D6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8EC64A-C828-46A2-9E07-9D1AA2B1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478C9C-4777-4B0A-80BE-F80EE0BA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034F86-32A7-4E0F-8E98-3A837892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F8F640-7DF6-4512-8D75-93517548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13902A-D26F-4D87-A3E1-33C5FBE7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3D2-E076-4E0E-8ABE-3B4BA620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DC7DE-47BB-4189-AD10-C16E0C75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BCFC70-CD75-4CBC-8BAE-E2AE6A7E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8F6446-D980-4623-A96C-AAFA8962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16B9FA-ED34-4A9D-BEC1-4A979D52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80F5C5-D108-496C-9C3C-B5D2D1FE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A68483-86F0-4C80-B8A2-0F8B2F87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0C73BC-A73E-4669-A3F6-A44D955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5519C4-8DD3-465A-9B90-9147166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4D44DF-3DFC-47A9-B072-4111BF12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3ABE00-35AC-4564-A954-440EFB60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0A53CC-CBA2-47EF-A98E-B84AD755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5F63A3-426E-4BAC-A66B-211A189C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473503-BF2E-4FA2-9585-C797BA9D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6598B9-3C51-4259-93D6-A79BF529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7F8B85-182C-4FA1-963B-56CDDEF0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EE5DCE-C140-4BC6-99ED-C00840A9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B28629-BE4C-4CB9-A897-07DBE86F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F59D18-6F76-4E09-B22A-7229FC30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2917B0-9912-469F-BEB7-2CDAE748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B30704-C742-4087-8FC7-DC60612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B638B0-20B3-465E-B5E5-73D5CEAD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AABDE5-7556-4848-9ADD-67BDBC5D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670661-7760-4EDB-9A1B-FF9E325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B8372B-F10C-40FE-B5D8-F0F9B910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57EDAA-38F7-472B-8815-D177D1C2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F6E032-B401-4597-8907-F15C1A8C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50FCB1-F845-43FD-BF55-23BBF33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3F6045-6863-4C6C-88AB-372BCAF3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0F8608-2B5A-458C-98DB-588838AD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37DE47-C7B7-4C64-BE58-BDC6D924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6C69F9-4C52-4580-9D52-D2916DB3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D8DE7-64DE-403A-997D-44DC620C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AF98F7-45DC-4138-BBF8-8D86848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43E88B-C0A7-4D73-9D5A-6027B6E7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122F37-E1AB-471D-B599-08FC5FEA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C53391-5D2C-4F87-8C04-DB2AF2ED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509439-D98A-4042-88BC-CB360876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98F-09B5-4F8C-948D-6A7AFC04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36D3A-8680-467F-8D16-F72ACA58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37DEB-326C-4D9A-8099-7342BE2A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EC9F6-FA45-4D88-ACFE-5654616E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F58DF-DDB5-4D9C-9880-3B5E7EEB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CAE89-2978-4567-B9E2-F032B12C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F6E-B9B0-4FE7-9668-1B91A1A5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19248-2715-4A3E-B14C-CCC55676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CDBD6-A903-4D4C-A3F3-8430679A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D7931-A1C1-4A88-A1CD-37C039C2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E7B82-09A9-4A85-9837-574D8280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D7923-F9CB-4776-BD38-FD356A56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F9486-4BA2-4C91-B569-FA302F92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75A2E-1987-47EF-833C-AE4BF7DA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A0B28-788C-4465-B41A-76069C5F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5A65C-CF89-4148-9EDF-3589BB85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739D1-A426-4D20-8225-209B34BF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EE7-4772-4134-94EC-6EA87D0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2B74A-2DBF-4611-978E-8B27794C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5CAA0-B7F0-42BC-ADE1-74C322E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686B7-10EF-4B4C-8078-E1E19428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9B8A1-D243-4BA7-A6DC-92BC15F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4D4E7-747C-4740-B036-FD43F54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4C4E0-3E73-4172-A06F-165E24CD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59E6F-3FF2-44AD-BE6F-1D62D97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68560-DF84-4B0E-92E9-247B8499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0C84D-58E8-4071-99F8-2E709296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2FCEB-DBB7-4C11-A19B-22C455F4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823-620B-4BF3-9C7B-E6B3069A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B3D47-DC02-4368-B47E-99793A53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46E24-DE76-468D-AD95-B67E0964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BDA92-202A-44A8-8294-AE7C7A15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321AC-2612-438E-920C-C9951880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BC90E-72E7-4A09-9D9F-563ABC13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4BB14-10B6-43AD-9F6B-EEF2B25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610E5-9C4F-420F-B833-2A6EC386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7628B-FEBA-4C90-9009-6D01243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43DD3-2573-4FFE-8450-4C61FB2F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5B0CC-C96B-4C19-B12A-3573BCF1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EB0-1687-49B4-9409-C1CF8542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62535-4730-4052-8A88-B0953C89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10882-875E-4191-B85F-EBBB3013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BBF19-F54F-4E6C-AC7A-0D29ECF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F82F9-1AA0-48A2-B627-FC4076B1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01586-1802-4323-A40B-DD51AFE5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F51C8-2407-4BE7-A19E-53981BFA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3BF607-8778-4842-B72B-FBDF613A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FE2EC-E175-4FFC-8284-60A4FC6B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6A6E3-59BB-4806-8398-0AF8A0E6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3A206-406D-4646-A2DC-B024659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A94-0D4A-42DC-9DB2-427D1BC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C761F-C84E-4EA3-8B46-8355BD8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5B137-DC83-4E00-99E6-FED35C98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82710-5915-4116-888D-1DB288BE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EC169-38BD-486D-B764-A99F334C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B07AB-5C36-4352-9737-F73249BB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A5BBF-6F15-4DF2-9C10-41FD34E4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E2CC8-DF2A-4A5A-8962-99CC855C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64C96-833E-47A7-9988-4492E84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8FCE5-12F0-4A16-8F04-F41B2889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D318E-3041-4CF8-80A8-28042454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338-4870-449B-A4EE-CDB7BDCF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DCFA3-150F-4FB3-BDD6-30AC2F7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86AC8-86DA-484B-9956-A202DA9D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FDFFC-ABBC-4802-95B3-F31D6C5A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278D5-42C6-4568-B23F-5A62CBAF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CDB77-0CA6-4B09-AED1-84440528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0C2A9-AD15-49D9-A111-5BF0AFA2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72DD6F-7461-4677-89CB-04B1459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F955F-3804-4502-9709-EA6959E9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FF883A-F176-46D6-B2C7-BEE79340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FC6E6A-76D3-4718-B26D-38DD4D62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40D-E37D-4324-9405-9990C5BB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52A252-0049-49CA-98F1-6E72B0B7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FC629-555F-4CBA-80AE-7620EF68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A03606-B027-4636-B4A1-49E8468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462354-BC1E-48AC-9BC2-4CFF2B82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7C0B70-5ACB-4F4C-AE2E-E0E5C1F9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0A5E77-BF77-4596-B889-DCC39C92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5C89C-C591-42DF-95D4-C28F5C65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9F275-B0AB-4696-B938-40CCE521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4682E8-4A14-4CA9-AC65-E31D0DD5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1414D3-0E42-459F-ABBD-7AE1FFE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07BB-19EB-4DE5-B5F4-6ED8009D507A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1B5-AFF3-4234-886B-BB005F70B81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F860-5003-40C4-92FC-C7B448D89CCA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918-8531-4508-8919-8F35402A611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1DDF-4749-4240-8D0B-09FEACCF58A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DBD1-EDB5-46B3-AC5F-4FB7C2CE2B0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305D-9D84-4696-93DE-1B5EFEA29468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7DBE-C829-48DE-8218-C17D7A8A009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B6D9-2314-4174-AD23-446B77E2575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05F7-2324-4959-8AED-F82DBCB1A09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402C-31D3-4894-B0EB-C2A6ECE05F09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943C-9715-4E9A-8F01-9AFAE776C45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50C2-B76C-43A3-BF83-BBD8AC37D74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A5B1-0528-4EBF-963F-3AE15A60923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12B8-CB27-4C2B-ADC3-D372E1CFE72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3EAF-DBEA-465C-8DB0-4338C76B9007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5BD9-E2F1-4F34-BAEA-367286A8A24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028B-46C0-482F-89A1-A370AE04F32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1B6D-8587-45E7-89BC-300C329E0D3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A9C-51C7-4E19-BB4C-E09C3FAC336A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23C7-6787-42FF-9E44-DBA68A983E8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917A-0F34-44D1-9578-6764E2798E20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DB10-3F8C-4FE9-A869-24036C08E80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D69-41D1-4969-8412-499398F97830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E735-A307-4509-9FDB-0483CD40C4D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2"/>
          <a:stretch/>
        </p:blipFill>
        <p:spPr>
          <a:xfrm>
            <a:off x="493560" y="2487600"/>
            <a:ext cx="81568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088640" y="1981080"/>
            <a:ext cx="7272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at is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people willing to move to colonies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Native Americans adversely affected by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Hernán Corté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8640" y="129528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1 – part of Spanish troops who conquered Cub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9 – set sail for Mexico with 11 ships, 550 men, and 16 hors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ttacked upon arrival, but quickly killed nativ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guilar and Doña Marina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translato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ains allies as he marches towards Aztec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48" name="Picture 3" descr="cortes.jpg"/>
          <p:cNvPicPr/>
          <p:nvPr/>
        </p:nvPicPr>
        <p:blipFill>
          <a:blip r:embed="rId2"/>
          <a:stretch/>
        </p:blipFill>
        <p:spPr>
          <a:xfrm>
            <a:off x="6705720" y="3429000"/>
            <a:ext cx="2227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in vs. Aztec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88640" y="1371240"/>
            <a:ext cx="7272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(Aztec emperor) attempted peace offering with Cortés, but it was rejected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s attempt to ambush Spanish on the way, but are defeated easily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November 8, 1519 – Spanish troops walk peacefully into city of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taken captive by Cortés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 priests rebelled and drove the Spanish out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mallpox wins the war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ay 1521 – Cortés takes over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New Spain’s Societ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Encomienda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stem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en put in charge of entire villages and get paid a portion of productio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ociety based on class</a:t>
            </a: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 (peninsulares, criollos, and mestizos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ots of abuse of Native Americans under Spanish rul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53" name="Picture 3" descr="encomienda.jpg"/>
          <p:cNvPicPr/>
          <p:nvPr/>
        </p:nvPicPr>
        <p:blipFill>
          <a:blip r:embed="rId2"/>
          <a:stretch/>
        </p:blipFill>
        <p:spPr>
          <a:xfrm>
            <a:off x="274320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French Empir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iginally sent people looking for Northwest Pass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amuel de Champlai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1608 – founded Quebec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Very involved in fur trad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ess harsh to Native America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rench huguenots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religious refuge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nt all the way down to Louisian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colonies.jpg"/>
          <p:cNvPicPr/>
          <p:nvPr/>
        </p:nvPicPr>
        <p:blipFill>
          <a:blip r:embed="rId2"/>
          <a:stretch/>
        </p:blipFill>
        <p:spPr>
          <a:xfrm>
            <a:off x="1905120" y="304920"/>
            <a:ext cx="59436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   </a:t>
            </a: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How might your lives be different today if Europeans had not colonized America, but rather it had been people from Africa, the Middle East, or Asia?</a:t>
            </a:r>
            <a:endParaRPr b="0" lang="en-US" sz="3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29:11Z</dcterms:created>
  <dc:creator>Moffa, David</dc:creator>
  <dc:description/>
  <dc:language>en-US</dc:language>
  <cp:lastModifiedBy>Moffa, David</cp:lastModifiedBy>
  <dcterms:modified xsi:type="dcterms:W3CDTF">2010-10-28T14:03:37Z</dcterms:modified>
  <cp:revision>20</cp:revision>
  <dc:subject/>
  <dc:title>Spain and France Build Empires in America</dc:title>
</cp:coreProperties>
</file>